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D77-C2E0-4B25-81DE-4537E93E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C00-1568-4CD0-8FBE-5DD222AC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600-7B52-4AAC-9191-F05C256D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475-1D2D-4F74-B2C5-982E8B4A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24B-C583-4DEE-AFDC-2B7DF7B3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F91-07C8-47C0-A8CB-9FD1B6E6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F09-5FB9-4AA2-B62D-967BF321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AF1-B0C2-4D0A-9514-BC4768B9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391-D856-40DA-9ACF-6F0A3E8F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13C-936C-4365-8149-D498AD0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0B7-E329-4760-AC11-7FA288E9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46C-B614-451E-B521-E22F0AEA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7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7695-1444-4CC3-B161-E0A13937875B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12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Праздник в лесу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класс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0000"/>
                </a:solidFill>
                <a:latin typeface="Calibri"/>
              </a:rPr>
              <a:t>Какая птица прилетает к нам на зиму из северных лесов 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1" name="Picture 5" descr="542054-320"/>
          <p:cNvPicPr/>
          <p:nvPr/>
        </p:nvPicPr>
        <p:blipFill>
          <a:blip r:embed="rId1"/>
          <a:stretch/>
        </p:blipFill>
        <p:spPr>
          <a:xfrm>
            <a:off x="2266920" y="1484280"/>
            <a:ext cx="378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3" name="Picture 6" descr="1260702549_snegiri011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294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680121_240"/>
          <p:cNvPicPr/>
          <p:nvPr/>
        </p:nvPicPr>
        <p:blipFill>
          <a:blip r:embed="rId2"/>
          <a:stretch/>
        </p:blipFill>
        <p:spPr>
          <a:xfrm>
            <a:off x="4500720" y="1197000"/>
            <a:ext cx="4427280" cy="29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85968_70"/>
          <p:cNvPicPr/>
          <p:nvPr/>
        </p:nvPicPr>
        <p:blipFill>
          <a:blip r:embed="rId3"/>
          <a:stretch/>
        </p:blipFill>
        <p:spPr>
          <a:xfrm>
            <a:off x="2556000" y="3649680"/>
            <a:ext cx="43210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Звер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7" name="Picture 5" descr="0_1da73_e33c2083_XL"/>
          <p:cNvPicPr/>
          <p:nvPr/>
        </p:nvPicPr>
        <p:blipFill>
          <a:blip r:embed="rId1"/>
          <a:stretch/>
        </p:blipFill>
        <p:spPr>
          <a:xfrm>
            <a:off x="1258920" y="1125360"/>
            <a:ext cx="6834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9" name="Picture 5" descr="el3"/>
          <p:cNvPicPr/>
          <p:nvPr/>
        </p:nvPicPr>
        <p:blipFill>
          <a:blip r:embed="rId1"/>
          <a:stretch/>
        </p:blipFill>
        <p:spPr>
          <a:xfrm>
            <a:off x="684360" y="1341360"/>
            <a:ext cx="3332160" cy="446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reza_belaya_zima"/>
          <p:cNvPicPr/>
          <p:nvPr/>
        </p:nvPicPr>
        <p:blipFill>
          <a:blip r:embed="rId2"/>
          <a:stretch/>
        </p:blipFill>
        <p:spPr>
          <a:xfrm>
            <a:off x="4427640" y="1268280"/>
            <a:ext cx="4248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Овощ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2" name="Рисунок 3" descr="морко.jpg"/>
          <p:cNvPicPr/>
          <p:nvPr/>
        </p:nvPicPr>
        <p:blipFill>
          <a:blip r:embed="rId1"/>
          <a:stretch/>
        </p:blipFill>
        <p:spPr>
          <a:xfrm>
            <a:off x="539640" y="1197000"/>
            <a:ext cx="3143520" cy="307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пус.jpg"/>
          <p:cNvPicPr/>
          <p:nvPr/>
        </p:nvPicPr>
        <p:blipFill>
          <a:blip r:embed="rId2"/>
          <a:stretch/>
        </p:blipFill>
        <p:spPr>
          <a:xfrm>
            <a:off x="5003640" y="1268280"/>
            <a:ext cx="3643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Неживая природ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5" name="Picture 5" descr="52924181_snow"/>
          <p:cNvPicPr/>
          <p:nvPr/>
        </p:nvPicPr>
        <p:blipFill>
          <a:blip r:embed="rId1"/>
          <a:stretch/>
        </p:blipFill>
        <p:spPr>
          <a:xfrm>
            <a:off x="179280" y="2492280"/>
            <a:ext cx="4826160" cy="395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yasno"/>
          <p:cNvPicPr/>
          <p:nvPr/>
        </p:nvPicPr>
        <p:blipFill>
          <a:blip r:embed="rId2"/>
          <a:stretch/>
        </p:blipFill>
        <p:spPr>
          <a:xfrm>
            <a:off x="4140360" y="1268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9+1=10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8" name="Picture 6" descr="ad0faab3-e1e2-45e3-9082-36f1510cb9e8_jpg_300x100000_q85"/>
          <p:cNvPicPr/>
          <p:nvPr/>
        </p:nvPicPr>
        <p:blipFill>
          <a:blip r:embed="rId1"/>
          <a:stretch/>
        </p:blipFill>
        <p:spPr>
          <a:xfrm>
            <a:off x="1476360" y="164772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hasyCHpana"/>
          <p:cNvPicPr/>
          <p:nvPr/>
        </p:nvPicPr>
        <p:blipFill>
          <a:blip r:embed="rId1"/>
          <a:stretch/>
        </p:blipFill>
        <p:spPr>
          <a:xfrm>
            <a:off x="1547640" y="434880"/>
            <a:ext cx="61930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2133720"/>
            <a:ext cx="7200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Знакомство с текстом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Праздник в лесу.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285920"/>
            <a:ext cx="8572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Под Новый год ребята устроили праздник для птиц и зверей. Они украсили ёлку сушёными ягодами рябины. К верхним веткам берёзки дети привязали две баранки. На нижние ветки берёзки повесили три морковки. Под ёлку в снег воткнули кочан капусты. 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С первыми лучами солнца к ёлке прилетели снегири, воробьи, синицы. Они радостно щебетали, угощались подарками. Вечером под берёзкой хлопотали два зайца. Они лакомились сочной капустой и сладкой морковкой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просы к тексту.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устроили ребята в лес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ем украсили ёлк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вязали к верхним веткам берёз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крепили к нижним веткам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уда воткнули кочан капуст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акие птицы прилетели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то хлопотал вечером под берёзкой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41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син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строили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Щебетали- ______________</a:t>
            </a:r>
            <a:br>
              <a:rPr sz="3200"/>
            </a:b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Лакомились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красили-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ант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Верхний-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Радостно-____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Утром-__________________ 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Объясни значение слов: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Хлопотали, лакомились, щебетали.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1628640"/>
            <a:ext cx="72327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Лакомились-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198900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заниматься чем-либо с усердием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324000" y="1268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Хлопотали-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1280" y="2637000"/>
            <a:ext cx="723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ели что-то вкусное</a:t>
            </a: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95280" y="472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Щебетали-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95280" y="53737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пели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Чем ребята украсили </a:t>
            </a:r>
            <a:r>
              <a:rPr b="1" lang="ru-RU" sz="4400" spc="-1" strike="noStrike">
                <a:solidFill>
                  <a:srgbClr val="760000"/>
                </a:solidFill>
                <a:latin typeface="Calibri"/>
              </a:rPr>
              <a:t>берёзку?</a:t>
            </a: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57" name="Picture 8" descr="%20%20%D1%81%D0%B4%D0%BE%D0%B1%D0%BD%D1%8B%D0%B5"/>
          <p:cNvPicPr/>
          <p:nvPr/>
        </p:nvPicPr>
        <p:blipFill>
          <a:blip r:embed="rId1"/>
          <a:stretch/>
        </p:blipFill>
        <p:spPr>
          <a:xfrm>
            <a:off x="468360" y="1773360"/>
            <a:ext cx="4268880" cy="31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rots"/>
          <p:cNvPicPr/>
          <p:nvPr/>
        </p:nvPicPr>
        <p:blipFill>
          <a:blip r:embed="rId2"/>
          <a:stretch/>
        </p:blipFill>
        <p:spPr>
          <a:xfrm>
            <a:off x="5003640" y="1787400"/>
            <a:ext cx="338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Животные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1" name="Picture 7" descr="post-19-1197304792_thumb"/>
          <p:cNvPicPr/>
          <p:nvPr/>
        </p:nvPicPr>
        <p:blipFill>
          <a:blip r:embed="rId1"/>
          <a:stretch/>
        </p:blipFill>
        <p:spPr>
          <a:xfrm>
            <a:off x="1403280" y="126828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ousesparrowmale2"/>
          <p:cNvPicPr/>
          <p:nvPr/>
        </p:nvPicPr>
        <p:blipFill>
          <a:blip r:embed="rId2"/>
          <a:stretch/>
        </p:blipFill>
        <p:spPr>
          <a:xfrm>
            <a:off x="5003640" y="141300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sinitsa"/>
          <p:cNvPicPr/>
          <p:nvPr/>
        </p:nvPicPr>
        <p:blipFill>
          <a:blip r:embed="rId3"/>
          <a:stretch/>
        </p:blipFill>
        <p:spPr>
          <a:xfrm>
            <a:off x="4716360" y="3933720"/>
            <a:ext cx="3097440" cy="217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picture-300h"/>
          <p:cNvPicPr/>
          <p:nvPr/>
        </p:nvPicPr>
        <p:blipFill>
          <a:blip r:embed="rId4"/>
          <a:stretch/>
        </p:blipFill>
        <p:spPr>
          <a:xfrm>
            <a:off x="971640" y="3933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Растени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6" name="Picture 4" descr="el3"/>
          <p:cNvPicPr/>
          <p:nvPr/>
        </p:nvPicPr>
        <p:blipFill>
          <a:blip r:embed="rId1"/>
          <a:stretch/>
        </p:blipFill>
        <p:spPr>
          <a:xfrm>
            <a:off x="395280" y="549360"/>
            <a:ext cx="2201760" cy="29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reza_belaya_zima"/>
          <p:cNvPicPr/>
          <p:nvPr/>
        </p:nvPicPr>
        <p:blipFill>
          <a:blip r:embed="rId2"/>
          <a:stretch/>
        </p:blipFill>
        <p:spPr>
          <a:xfrm>
            <a:off x="395280" y="3532320"/>
            <a:ext cx="3384720" cy="2970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капус.jpg"/>
          <p:cNvPicPr/>
          <p:nvPr/>
        </p:nvPicPr>
        <p:blipFill>
          <a:blip r:embed="rId3"/>
          <a:stretch/>
        </p:blipFill>
        <p:spPr>
          <a:xfrm>
            <a:off x="4788000" y="3838680"/>
            <a:ext cx="3313080" cy="26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orkov-1609"/>
          <p:cNvPicPr/>
          <p:nvPr/>
        </p:nvPicPr>
        <p:blipFill>
          <a:blip r:embed="rId4"/>
          <a:stretch/>
        </p:blipFill>
        <p:spPr>
          <a:xfrm>
            <a:off x="4859280" y="1268280"/>
            <a:ext cx="3348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06:15Z</dcterms:created>
  <dc:creator>ЛИЛИЯ</dc:creator>
  <dc:description/>
  <dc:language>en-US</dc:language>
  <cp:lastModifiedBy>68</cp:lastModifiedBy>
  <dcterms:modified xsi:type="dcterms:W3CDTF">2013-01-18T03:59:45Z</dcterms:modified>
  <cp:revision>67</cp:revision>
  <dc:subject/>
  <dc:title>Слайд 1</dc:title>
</cp:coreProperties>
</file>